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823-6DD4-4BF6-8D1D-D1264855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297-932B-47E0-A368-F780D868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45A-D204-45EC-82BF-A49BA0B6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9B1-2015-405A-87DF-F0CE56F6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BBA-6458-407F-ADBD-BF17E4F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E89-387F-43F8-BF0D-581F0612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432-C233-4F7C-A246-C5FA5B9F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46F-96C9-4FAB-A942-090CF82C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3AF-6081-4271-9FBC-B595B82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78D-F3FE-4642-85AE-F885D67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E62-4BBF-43D5-B395-34F003B4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D82-3E03-44E7-B320-C1715FB6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FE9A-FEF0-4B86-83AC-B073D355D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diumxtras.com/images/pictures/chuck_norris_random_fact_generator_6_3957_2224_image_2578.jpg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93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i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s 3, 4,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msp193.photobucket.com/albums/z80/_Green_WeeD_/chuck-norris.jpg"/>
          <p:cNvPicPr/>
          <p:nvPr/>
        </p:nvPicPr>
        <p:blipFill>
          <a:blip r:embed="rId1"/>
          <a:stretch/>
        </p:blipFill>
        <p:spPr>
          <a:xfrm>
            <a:off x="0" y="0"/>
            <a:ext cx="908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US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rgest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ch country- technology, resources, and 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vate Enterprise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ighly privatized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ighly marketized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popfi.com/wp-content/uploads/8de6c_chuck-norris-evolu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hapter 3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elatively closed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We export and import a small share of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 growing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The growth has been irreg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We do experience recessions ( falling GDP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lternates from good and bad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238.imageshack.us/img238/8484/pwneddp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3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les of the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fe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usiness regu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x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distributor of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onereasonwhy.com/images/Chuck-Norris-scares-the-Boogey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Opportunity cost-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benefit in a choice foregone in a trade-of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roduction Possibility frontier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flects all the possible combinations of products a company can produce will full resources utiliz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170.photobucket.com/albums/u272/nateisstrait58/chuck%20norris/chuck_norris-1.jpg"/>
          <p:cNvPicPr/>
          <p:nvPr/>
        </p:nvPicPr>
        <p:blipFill>
          <a:blip r:embed="rId1"/>
          <a:stretch/>
        </p:blipFill>
        <p:spPr>
          <a:xfrm>
            <a:off x="1676520" y="0"/>
            <a:ext cx="59529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pter 4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carcity of economic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nsumption goods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od purchased by the consumer that is to be used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apital Goods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ods used for futur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creas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pecialization ( caveman s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gavetafilmes.com.br/chucknorrislevandomuitaporrada/chuck_norris_03.jpg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mand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 desire, ability and willingness to purchase a pro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mand schedule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isting of all amounts that would be purchased at all pric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Law of Demand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ice increase, QD decreases. Inverse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nge in quantity demand is cause by pr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nge in demand caused by population, consumer income, and tastes of consum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img524.imageshack.us/img524/4936/chuckma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hapter 5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upply-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producing and selling a product at all possible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aw of supply-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llers will sell more at a higher price then l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hange in quantity supply is caused by change in pr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terminates of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umber of sellers and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tbn3.google.com/images?q=tbn:PHN7k1xjif6TfM:http://www.aridiwrites.com/ChuckNorrisApproved.png"/>
          <p:cNvPicPr/>
          <p:nvPr/>
        </p:nvPicPr>
        <p:blipFill>
          <a:blip r:embed="rId1"/>
          <a:stretch/>
        </p:blipFill>
        <p:spPr>
          <a:xfrm>
            <a:off x="1295280" y="38088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7:37Z</dcterms:created>
  <dc:creator>Gordon.I047</dc:creator>
  <dc:description/>
  <dc:language>en-US</dc:language>
  <cp:lastModifiedBy>HP Authorized Customer</cp:lastModifiedBy>
  <dcterms:modified xsi:type="dcterms:W3CDTF">2009-01-27T21:45:18Z</dcterms:modified>
  <cp:revision>6</cp:revision>
  <dc:subject/>
  <dc:title>Unit 1</dc:title>
</cp:coreProperties>
</file>